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68B-BBE7-4930-9E33-F26E013B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660-416A-4B18-8FF9-7CD793C8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58F-3589-4EF9-A90C-1771D2FD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74A-D334-412B-9D1F-1444060C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783-97BD-4ADE-9B12-13F6C283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77A-B19E-48C2-B2B2-FF3B4224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8C3-1FE7-497E-9DD9-6EA8A05F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E3D-7F6C-4B02-B05C-6E2120C8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A5E-7CEC-4804-86C4-AF7CEF25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8E0-CD53-484E-A668-0B38ECB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926-21AB-4D5F-A1E7-F03724C4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B52-D261-4B64-B489-038067E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5141-6689-4B7F-9A53-65EF4DCBA9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ctángulo" descr=""/>
          <p:cNvPicPr/>
          <p:nvPr/>
        </p:nvPicPr>
        <p:blipFill>
          <a:blip r:embed="rId2"/>
          <a:stretch/>
        </p:blipFill>
        <p:spPr>
          <a:xfrm>
            <a:off x="-384120" y="1450800"/>
            <a:ext cx="9978840" cy="227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403280" y="189000"/>
            <a:ext cx="611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NGIOSPERMAS.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F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981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ÓRGANOS RE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estambre"/>
          <p:cNvPicPr/>
          <p:nvPr/>
        </p:nvPicPr>
        <p:blipFill>
          <a:blip r:embed="rId1"/>
          <a:stretch/>
        </p:blipFill>
        <p:spPr>
          <a:xfrm>
            <a:off x="4427640" y="1628640"/>
            <a:ext cx="4101840" cy="417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pistilo"/>
          <p:cNvPicPr/>
          <p:nvPr/>
        </p:nvPicPr>
        <p:blipFill>
          <a:blip r:embed="rId2"/>
          <a:stretch/>
        </p:blipFill>
        <p:spPr>
          <a:xfrm>
            <a:off x="324000" y="1628640"/>
            <a:ext cx="417168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468360" y="404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FLORESC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www.la-alpujarra.org/comun/plantas/fotos/p-glosario_flores1.gif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611280" y="907920"/>
            <a:ext cx="79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un vegetal las flores raramente se dan aisladas sino que se agrupan en conjuntos de formas regulares que reciben el nombre de infloresc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24000" y="404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E FLORES A FR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90792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élula sexual mascul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grano de polen alcanza a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élula sexual femen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está en el óvulo, en el interior del ovario, se produc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ecund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partir de este momento, la flor empieza a transformarse, pierde la corola y los estambres y, muchas veces, también el caliz. El ovario empieza a crecer y se convierte en el fruto. Los óvulos que están en el interior del ovario también aumentan de tamaño y dan lugar a l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m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5280" y="3357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IPOS DE FR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frutos_carnosos_secos"/>
          <p:cNvPicPr/>
          <p:nvPr/>
        </p:nvPicPr>
        <p:blipFill>
          <a:blip r:embed="rId1"/>
          <a:srcRect l="0" t="1690" r="0" b="50023"/>
          <a:stretch/>
        </p:blipFill>
        <p:spPr>
          <a:xfrm>
            <a:off x="179280" y="4076640"/>
            <a:ext cx="4392720" cy="220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frutos_carnosos_secos"/>
          <p:cNvPicPr/>
          <p:nvPr/>
        </p:nvPicPr>
        <p:blipFill>
          <a:blip r:embed="rId2"/>
          <a:srcRect l="0" t="49087" r="0" b="0"/>
          <a:stretch/>
        </p:blipFill>
        <p:spPr>
          <a:xfrm>
            <a:off x="4572000" y="4005360"/>
            <a:ext cx="4386240" cy="232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116000" y="189000"/>
            <a:ext cx="712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DISPERSIÓN DE LAS SEM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1123920"/>
            <a:ext cx="8569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frutos hacen posible la dispersión de las semillas. Esta dispersión es necesaria porque si caen cerca de la planta madre competirán por la luz y el agua, por ello cuanto mayor sea la dispersión mayor será la probabilidad de superviv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ZOOCOR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. Endozoocora: Frutos que sirven de alimentos a los animales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n ser digeridas, las semillas son expulsadas a través de l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ces en lugare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. Epizoocora: Frutos no comestibles se adhieren a la piel de l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imales mediante ganchos fijadores, para ser transportados 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ANEMOCORAS: el cáliz se transforma en un conjunto de pelos para favorecer su dispersión por el v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HIDROCORAS: otros frutos como los cocos poseen cubiertas que les permite flotar y dispersarse por el a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195640" y="4575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youtube.com/watch?v=fFCLqti1I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74920" y="549360"/>
            <a:ext cx="63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POLEN Y LA POLI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3230" t="35300" r="38849" b="20618"/>
          <a:stretch/>
        </p:blipFill>
        <p:spPr>
          <a:xfrm>
            <a:off x="2050920" y="1363680"/>
            <a:ext cx="4969080" cy="257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13836" t="34464" r="39680" b="20269"/>
          <a:stretch/>
        </p:blipFill>
        <p:spPr>
          <a:xfrm>
            <a:off x="1476360" y="1413000"/>
            <a:ext cx="6048360" cy="3311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332000" y="549360"/>
            <a:ext cx="63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OLINIZACIÓN POR INS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92360" y="5229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youtube.com/watch?v=LYGYSYnR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627280" y="117360"/>
            <a:ext cx="37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GIMNOSP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929280" y="6072120"/>
            <a:ext cx="1150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P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14240" y="1285920"/>
            <a:ext cx="568980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rgieron antes que las angiospe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tas LEÑOS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ueden ser arbustos, pero la mayoría son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número de e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j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rechas (pino: agu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cama (cipre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rmalmente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ja per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lores s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SEXU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flores masculinas y flores femeninas que se agrupan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lorescenc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IENEN FRU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mil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parece 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cu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5400" y="77004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F:\UD10\cipres_gimnosperma.jpg"/>
          <p:cNvPicPr/>
          <p:nvPr/>
        </p:nvPicPr>
        <p:blipFill>
          <a:blip r:embed="rId1"/>
          <a:stretch/>
        </p:blipFill>
        <p:spPr>
          <a:xfrm>
            <a:off x="6429240" y="1500120"/>
            <a:ext cx="2293920" cy="450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547640" y="115920"/>
            <a:ext cx="6336000" cy="1170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GIMNOSP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4e6a65"/>
                </a:solidFill>
                <a:uFillTx/>
                <a:latin typeface="Comic Sans MS"/>
              </a:rPr>
              <a:t>CONÍF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872080" y="1643040"/>
            <a:ext cx="41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PINOS                AB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inusnigra"/>
          <p:cNvPicPr/>
          <p:nvPr/>
        </p:nvPicPr>
        <p:blipFill>
          <a:blip r:embed="rId1"/>
          <a:stretch/>
        </p:blipFill>
        <p:spPr>
          <a:xfrm>
            <a:off x="500040" y="2357280"/>
            <a:ext cx="4384800" cy="3918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picea-abies"/>
          <p:cNvPicPr/>
          <p:nvPr/>
        </p:nvPicPr>
        <p:blipFill>
          <a:blip r:embed="rId2"/>
          <a:stretch/>
        </p:blipFill>
        <p:spPr>
          <a:xfrm>
            <a:off x="5429160" y="2357280"/>
            <a:ext cx="3292560" cy="3956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1306440" y="1285920"/>
            <a:ext cx="5275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CONÍFERAS: PINOS Y AB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58920" y="115920"/>
            <a:ext cx="63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GIMNOSP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57120" y="2000160"/>
            <a:ext cx="8497800" cy="44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lor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ien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ÉTALOS ni SÉPA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SEXU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LORESCENCIAS FEMENI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nominan CONOS 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Ñ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y l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SCULI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forma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RUT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el piñón es la semilla de la plan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as especi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ecen ráp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or ell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utiliz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e tipo de especies 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pob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una zona y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tener pape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GNI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un tipo de carbón de bajo poder calor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LIGNITO se formó hace millones de años, a partir de los restos de bosques de coníferas que se depositaron en la desembocadura de los rí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684360" y="18900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RAÍ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raiz"/>
          <p:cNvPicPr/>
          <p:nvPr/>
        </p:nvPicPr>
        <p:blipFill>
          <a:blip r:embed="rId1"/>
          <a:srcRect l="6142" t="0" r="12318" b="0"/>
          <a:stretch/>
        </p:blipFill>
        <p:spPr>
          <a:xfrm>
            <a:off x="5003640" y="2492280"/>
            <a:ext cx="3961080" cy="3484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250920" y="98100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a raí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parte subterránea de un vegetal, le sirve para manterse fijo al suelo y absorber el agua y las sustancias minerales que necesita para viv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5280" y="1916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39640" y="2421000"/>
            <a:ext cx="446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z Princip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que sal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ces secundar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ambas tienen pelos absorbentes que sirven para absorber el agua y las sales mi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f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bultamiento que protege el extremo de la raíz para que puedan seguir creci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Zona de creci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situada entre la cofia y los pelos absorb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642960" y="1916280"/>
            <a:ext cx="74581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seres vivos pluricelulares que fabrican su propia materia orgánica mediante la fotosíntesis =&gt; seres autótro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nen unas características básicas comunes prácticamente entre todos los seres vivos de este rei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 mayoría de los casos viven fijos al suelo (no por ell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jan de tener mov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on de color verde porque en sus células tiene un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stancia llamada cloro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 cuerpo está formado por tres partes: raíz, tallo y hoj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187280" y="33336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¿QUÉ SON LOS VEGETAL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84360" y="18900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RAÍ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24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95280" y="9079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1341360"/>
            <a:ext cx="86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ijar la planta al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similar a través de los pelos absorbentes el agua y las sales mi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http://www.diccionarioplantasnet.es/recoleccion/imagenes/raices.jpg"/>
          <p:cNvPicPr/>
          <p:nvPr/>
        </p:nvPicPr>
        <p:blipFill>
          <a:blip r:embed="rId1"/>
          <a:srcRect l="4871" t="0" r="4055" b="0"/>
          <a:stretch/>
        </p:blipFill>
        <p:spPr>
          <a:xfrm>
            <a:off x="5219640" y="2924280"/>
            <a:ext cx="3781440" cy="3473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179280" y="2924280"/>
            <a:ext cx="518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z axonofor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aíz principal de la que salen varios eje laterales (característico de la judí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z fascicul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no se distingue raíz principal de las secundarias, ya que tienen el mismo grosor. Se disponen como un penacho de pelos.   (ej: la cebolla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z napiform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una raíz principal muy engrosada, donde se acumulan sustancias de reserva (ej: la zanaho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755640" y="18900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L TA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9640" y="10526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 el eje de la planta y sirve para sostener las hojas y para comunicar las hojas con la raí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826920" y="2492280"/>
            <a:ext cx="48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5867280" y="1844640"/>
            <a:ext cx="3276720" cy="3119040"/>
            <a:chOff x="5867280" y="1844640"/>
            <a:chExt cx="3276720" cy="3119040"/>
          </a:xfrm>
        </p:grpSpPr>
        <p:pic>
          <p:nvPicPr>
            <p:cNvPr id="129" name="Picture 8" descr="http://www.infojardin.com/imagenes-subir/getimg/tallo.jpg"/>
            <p:cNvPicPr/>
            <p:nvPr/>
          </p:nvPicPr>
          <p:blipFill>
            <a:blip r:embed="rId1"/>
            <a:srcRect l="0" t="0" r="0" b="6868"/>
            <a:stretch/>
          </p:blipFill>
          <p:spPr>
            <a:xfrm>
              <a:off x="5867280" y="1844640"/>
              <a:ext cx="3276720" cy="29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9"/>
            <p:cNvSpPr/>
            <p:nvPr/>
          </p:nvSpPr>
          <p:spPr>
            <a:xfrm>
              <a:off x="7778160" y="4518360"/>
              <a:ext cx="114516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0"/>
          <p:cNvSpPr/>
          <p:nvPr/>
        </p:nvSpPr>
        <p:spPr>
          <a:xfrm>
            <a:off x="395280" y="1916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071720" y="514368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rminales o apic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localizadas en el ápice, son los responsables del crecimiento en longitud del ta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xil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se sitúan entre la hoja y el tallo y a partir de ellas se formaran las 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1357200" y="4643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357200" y="53578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1357200" y="59292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4 CuadroTexto"/>
          <p:cNvSpPr/>
          <p:nvPr/>
        </p:nvSpPr>
        <p:spPr>
          <a:xfrm>
            <a:off x="857160" y="24289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udo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Abultamientos de donde salen las hojas y las 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trenu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ozo de tallo comprendido entre dos nu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Ápice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Extremo superior del ta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ema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rotes del tallo que permiten que se desar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826920" y="2492280"/>
            <a:ext cx="48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9280" y="33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755640" y="765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función básica es la de sostener tanto a las hojas como a las flores para que puedan hacer la fotosíntesis, y contienen los vasos conductores por donde son transportadas tanto la savia bruta como la elabor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179280" y="2687760"/>
            <a:ext cx="856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gún su du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u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recen durante un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eren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i lo hacen durante dos o mas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gún su tal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erbáce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allo fino, verdes y no son muy altos. Viven po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mpo 1 o 2 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ñ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matas, arbustos o árboles): tallo grueso, resistentes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n llegar a medir hasta 100m. Son de vid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gún su disposición respecto al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ére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rectos (árboles) o trepadores (hied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uát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bajo el agua Ej: nenúf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ubterráne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recen bajo tierra y suelen ser gruesos porqu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umulan sustancias de reser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79280" y="2205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TIPOS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pueden clasificar según 3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http://almez.pntic.mec.es/~jrem0000/dpbg/1bch/tema8/tallos.JPG"/>
          <p:cNvPicPr/>
          <p:nvPr/>
        </p:nvPicPr>
        <p:blipFill>
          <a:blip r:embed="rId1"/>
          <a:stretch/>
        </p:blipFill>
        <p:spPr>
          <a:xfrm>
            <a:off x="3024360" y="0"/>
            <a:ext cx="3367080" cy="681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755640" y="18900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H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2720" y="112536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órganos del vegetal que se han especializado en la fabricación del al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11280" y="2060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1280" y="27097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hojas se realiza la fotosíntesis. Asimismo las hojas regulan la transpiración de la planta mediante los estomas (orificios que se encuentran en el envés y regulan la pérdida de ag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hoja_1"/>
          <p:cNvPicPr/>
          <p:nvPr/>
        </p:nvPicPr>
        <p:blipFill>
          <a:blip r:embed="rId1"/>
          <a:stretch/>
        </p:blipFill>
        <p:spPr>
          <a:xfrm>
            <a:off x="1979640" y="4208400"/>
            <a:ext cx="5111640" cy="2460600"/>
          </a:xfrm>
          <a:prstGeom prst="rect">
            <a:avLst/>
          </a:prstGeom>
          <a:ln w="0">
            <a:noFill/>
          </a:ln>
        </p:spPr>
      </p:pic>
      <p:sp>
        <p:nvSpPr>
          <p:cNvPr id="148" name="6 Rectángulo"/>
          <p:cNvSpPr/>
          <p:nvPr/>
        </p:nvSpPr>
        <p:spPr>
          <a:xfrm>
            <a:off x="1714680" y="6072120"/>
            <a:ext cx="14284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hoja_1"/>
          <p:cNvPicPr/>
          <p:nvPr/>
        </p:nvPicPr>
        <p:blipFill>
          <a:blip r:embed="rId1"/>
          <a:stretch/>
        </p:blipFill>
        <p:spPr>
          <a:xfrm>
            <a:off x="1258920" y="3860640"/>
            <a:ext cx="6049800" cy="2911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95280" y="907920"/>
            <a:ext cx="799164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mb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 la parte laminar de la hoja. Tiene dos ca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ra superi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az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es la expuesta al Sol y es de color verde oscuro y br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ra inferi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vé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Suele ser de color verde claro y tiene los nervios muy ma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cío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abillo que une la hoja con el t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rv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ubos finos que llegan desde el tallo por el pecíolo hasta el limbo. En el interior de los nervios se encuentran los vasos conductores (xilema-floema) por los que circula la sav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55640" y="18900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H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755640" y="18900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H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95280" y="90792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TIPOS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pueden clasificar según distintos cri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042920" y="227664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38200" y="1484280"/>
            <a:ext cx="8137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el tipo de nerv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Uninerv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un único ner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rviación pin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nervio principal del que partes unos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cund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alme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De un punto del nervio principal parte nervi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ndarios igual de importantes que el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arale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haz de nervios pararalelos de un extremo 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h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la forma del limb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imp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imbo de una 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es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Limbo compuesto por diversas piez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lamadas foli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el borde del lim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. Enteras      b. Aserradas   c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adas   d. Lob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. Hendida             f. Part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http://almez.pntic.mec.es/~jrem0000/dpbg/1bch/tema8/tipos-hojas.JPG"/>
          <p:cNvPicPr/>
          <p:nvPr/>
        </p:nvPicPr>
        <p:blipFill>
          <a:blip r:embed="rId1"/>
          <a:stretch/>
        </p:blipFill>
        <p:spPr>
          <a:xfrm>
            <a:off x="576360" y="0"/>
            <a:ext cx="7740720" cy="682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rcRect l="14886" t="32101" r="61837" b="34045"/>
          <a:stretch/>
        </p:blipFill>
        <p:spPr>
          <a:xfrm>
            <a:off x="2195640" y="907920"/>
            <a:ext cx="4392360" cy="3594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611280" y="333360"/>
            <a:ext cx="784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¿QUÉ OBSERVAS EN ESTOS DIBUJ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55640" y="431496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os ratones están dentro de una campana de cristal, aislados del exterior. El de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zquier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ue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vi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astante tiempo porque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ta produce oxí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necesari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imal respir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l ratón de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recha muere asfixia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rqu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agota el oxí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474920" y="549360"/>
            <a:ext cx="63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rcRect l="3869" t="42319" r="61823" b="17320"/>
          <a:stretch/>
        </p:blipFill>
        <p:spPr>
          <a:xfrm>
            <a:off x="2484360" y="1484280"/>
            <a:ext cx="4464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611280" y="4797360"/>
            <a:ext cx="82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www.youtube.com/watch?v=R0FLLRdnnPM&amp;feature=player_embedded#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187280" y="11592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OTO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0920" y="836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ceso de la fotosíntesis consiste en la fabricación de materia orgánica que es la que va a formar parte del vegetal, a partir de compuestos inorgánicos que se toman del exterior: dióxido de carbono, agua y sales minerales. En este proceso se desprende oxí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5280" y="2774880"/>
            <a:ext cx="820908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Captan la energía del Sol mediante la cloro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Las hojas toman el dióxido de carbono del 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esde la raíz, el agua y las sales minerales llegan a las hojas (Savia bru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acción es igual a 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agua + sales minerales + Luz solar = Glucosa +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El oxígeno, producido en la reacción es liberado a 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La glucosa fabricada en las hojas debe alimentar a todas las células de la planta. (savia elabor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84360" y="231156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87280" y="11592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OTO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edu.jccm.es/ies/aguasvivas/images/stories/mate_crec_4.jpg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6110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rcRect l="11521" t="32141" r="56123" b="27436"/>
          <a:stretch/>
        </p:blipFill>
        <p:spPr>
          <a:xfrm>
            <a:off x="179280" y="333360"/>
            <a:ext cx="8785440" cy="621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http://recursos.cnice.mec.es/biosfera/alumno/1ESO/reino_vegetal/imagenes/musgocopiar.gif"/>
          <p:cNvPicPr/>
          <p:nvPr/>
        </p:nvPicPr>
        <p:blipFill>
          <a:blip r:embed="rId1"/>
          <a:srcRect l="4288" t="8856" r="11397" b="0"/>
          <a:stretch/>
        </p:blipFill>
        <p:spPr>
          <a:xfrm>
            <a:off x="6000840" y="928800"/>
            <a:ext cx="3143160" cy="3541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1692360" y="11736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HEPÁTICAS Y MU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986200" y="11714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VASOS 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6200000">
            <a:off x="4176720" y="-1576440"/>
            <a:ext cx="431640" cy="4969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11280" y="184464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U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79280" y="2637000"/>
            <a:ext cx="424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ULOI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semeja a un tal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leva insertada una especie de hojas denominad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Z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 lo que los musgos se fijan al suelo y absorben el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9 CuadroTexto"/>
          <p:cNvSpPr/>
          <p:nvPr/>
        </p:nvSpPr>
        <p:spPr>
          <a:xfrm>
            <a:off x="642960" y="44290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HEP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85840" y="492912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y b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tienen vasos con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1 Flecha doblada"/>
          <p:cNvSpPr/>
          <p:nvPr/>
        </p:nvSpPr>
        <p:spPr>
          <a:xfrm>
            <a:off x="3857760" y="1857240"/>
            <a:ext cx="1428480" cy="71460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http://2.bp.blogspot.com/-6U1kP-mT7eg/Td--zyQgHNI/AAAAAAAAAAY/U2bcBYe1sUg/s1600/hepaticas.jpg"/>
          <p:cNvPicPr/>
          <p:nvPr/>
        </p:nvPicPr>
        <p:blipFill>
          <a:blip r:embed="rId2"/>
          <a:stretch/>
        </p:blipFill>
        <p:spPr>
          <a:xfrm>
            <a:off x="4357800" y="4429080"/>
            <a:ext cx="2624040" cy="2097000"/>
          </a:xfrm>
          <a:prstGeom prst="rect">
            <a:avLst/>
          </a:prstGeom>
          <a:ln w="0">
            <a:noFill/>
          </a:ln>
        </p:spPr>
      </p:pic>
      <p:sp>
        <p:nvSpPr>
          <p:cNvPr id="61" name="12 Flecha doblada"/>
          <p:cNvSpPr/>
          <p:nvPr/>
        </p:nvSpPr>
        <p:spPr>
          <a:xfrm flipH="1" rot="10800000">
            <a:off x="2286000" y="5715000"/>
            <a:ext cx="1357200" cy="71424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692360" y="11736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HEL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70200" y="11714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VASOS 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 rot="16200000">
            <a:off x="4176720" y="-1576440"/>
            <a:ext cx="431640" cy="4969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8000" y="2584440"/>
            <a:ext cx="460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l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rráneo y s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z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tallo salen grandes hojas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fr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on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vid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hojitas pequeñas llamad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lio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vé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arte de atrás de la hoja) se encuentran 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orang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onde se produc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4643280" y="1700280"/>
            <a:ext cx="3970440" cy="4753080"/>
            <a:chOff x="4643280" y="1700280"/>
            <a:chExt cx="3970440" cy="4753080"/>
          </a:xfrm>
        </p:grpSpPr>
        <p:grpSp>
          <p:nvGrpSpPr>
            <p:cNvPr id="67" name="Group 10"/>
            <p:cNvGrpSpPr/>
            <p:nvPr/>
          </p:nvGrpSpPr>
          <p:grpSpPr>
            <a:xfrm>
              <a:off x="4643280" y="1700280"/>
              <a:ext cx="3970440" cy="4753080"/>
              <a:chOff x="4643280" y="1700280"/>
              <a:chExt cx="3970440" cy="4753080"/>
            </a:xfrm>
          </p:grpSpPr>
          <p:pic>
            <p:nvPicPr>
              <p:cNvPr id="68" name="Picture 8" descr="helecho"/>
              <p:cNvPicPr/>
              <p:nvPr/>
            </p:nvPicPr>
            <p:blipFill>
              <a:blip r:embed="rId1"/>
              <a:stretch/>
            </p:blipFill>
            <p:spPr>
              <a:xfrm>
                <a:off x="4643280" y="1700280"/>
                <a:ext cx="3970440" cy="475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Text Box 9"/>
              <p:cNvSpPr/>
              <p:nvPr/>
            </p:nvSpPr>
            <p:spPr>
              <a:xfrm>
                <a:off x="6732720" y="1989000"/>
                <a:ext cx="14396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Comic Sans MS"/>
                  </a:rPr>
                  <a:t>Foliol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utoShape 11"/>
            <p:cNvSpPr/>
            <p:nvPr/>
          </p:nvSpPr>
          <p:spPr>
            <a:xfrm>
              <a:off x="5508720" y="1773360"/>
              <a:ext cx="287280" cy="28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73080 h 2808000"/>
                <a:gd name="textAreaBottom" fmla="*/ 2734920 h 28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4932360" y="23493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</a:rPr>
                <a:t>Fron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4"/>
          <p:cNvSpPr/>
          <p:nvPr/>
        </p:nvSpPr>
        <p:spPr>
          <a:xfrm>
            <a:off x="250920" y="1916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zonas templadas y f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rcRect l="11815" t="32584" r="55968" b="27382"/>
          <a:stretch/>
        </p:blipFill>
        <p:spPr>
          <a:xfrm>
            <a:off x="0" y="189000"/>
            <a:ext cx="9144000" cy="6392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1403280" y="189000"/>
            <a:ext cx="611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NGIOSPERMAS.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F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68360" y="1052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lores son las partes de la planta especializadas en la reproducción, ya que en su interior se encuentran los órganos sex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324000" y="1989000"/>
            <a:ext cx="8424360" cy="4752720"/>
            <a:chOff x="324000" y="1989000"/>
            <a:chExt cx="8424360" cy="4752720"/>
          </a:xfrm>
        </p:grpSpPr>
        <p:grpSp>
          <p:nvGrpSpPr>
            <p:cNvPr id="77" name="Group 6"/>
            <p:cNvGrpSpPr/>
            <p:nvPr/>
          </p:nvGrpSpPr>
          <p:grpSpPr>
            <a:xfrm>
              <a:off x="324000" y="1989000"/>
              <a:ext cx="8424360" cy="4752720"/>
              <a:chOff x="324000" y="1989000"/>
              <a:chExt cx="8424360" cy="4752720"/>
            </a:xfrm>
          </p:grpSpPr>
          <p:pic>
            <p:nvPicPr>
              <p:cNvPr id="78" name="Picture 4" descr="flor_1"/>
              <p:cNvPicPr/>
              <p:nvPr/>
            </p:nvPicPr>
            <p:blipFill>
              <a:blip r:embed="rId1"/>
              <a:stretch/>
            </p:blipFill>
            <p:spPr>
              <a:xfrm>
                <a:off x="555480" y="1989000"/>
                <a:ext cx="8192880" cy="475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5"/>
              <p:cNvSpPr/>
              <p:nvPr/>
            </p:nvSpPr>
            <p:spPr>
              <a:xfrm>
                <a:off x="324000" y="6317280"/>
                <a:ext cx="293364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9"/>
            <p:cNvSpPr/>
            <p:nvPr/>
          </p:nvSpPr>
          <p:spPr>
            <a:xfrm>
              <a:off x="5292720" y="4870440"/>
              <a:ext cx="86364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5796000" y="530208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06:37Z</dcterms:created>
  <dc:creator>Ana</dc:creator>
  <dc:description/>
  <dc:language>en-US</dc:language>
  <cp:lastModifiedBy>usuario</cp:lastModifiedBy>
  <dcterms:modified xsi:type="dcterms:W3CDTF">2012-02-21T16:35:00Z</dcterms:modified>
  <cp:revision>106</cp:revision>
  <dc:subject/>
  <dc:title>Diapositiva 1</dc:title>
</cp:coreProperties>
</file>